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137-67D2-449A-9CD8-EDEB7285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6A3-CA81-44AA-9D22-6491BB61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87A-C3B7-4ADC-9C2D-63AF7183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FE0-7167-4266-B25F-7D242265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6137-111F-4F7D-A71F-E34D4B98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4C5-52FD-45A7-A434-A16B4886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00F-9C47-4866-98A2-8F15FDC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E1AC-F8C5-4A6B-8FF7-B8DCD2D7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7673-82BB-4788-B306-A44527F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F934-A36E-425A-B125-4F2CC49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FF3-D01C-477E-9C60-416822B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2E0-B4D4-45A0-A27D-53844F9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E609-1A43-4336-B05B-5FEBA7F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7D6-2997-419F-B353-C24ACEF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929-45BF-489A-9550-51FFCCCD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125-1437-4EA2-AE6E-4B2D4CA4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092-DE72-4115-9D1C-B9E6AF8B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E5BE-0E42-4993-BCF9-B3A6F8F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6F39-32D9-4C2F-AC5D-2395245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65CB-3697-4994-9EBF-7957609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CD90-4129-437D-A52C-7BAFF835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638F-FDF8-465D-8890-39585A2A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EFF-9607-4263-A3B4-2113170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D713-92DA-4CB9-96DC-77BDFA2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538A-818B-4E31-9E10-AB82E22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57B5-29A5-433C-B992-4C2A6E2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7024-23FC-4061-A96B-E90AEAF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D4FD-5252-4F81-A635-926E0174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D5CD-2A1E-4147-BB57-5EBEB989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C279-DE4B-4A45-AC93-55CC73AA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6E02D-6039-4DFE-8FCD-C5B5FCB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C98B9-173B-4153-AD28-FB1F977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DFDA4-F221-405E-89F2-EF946124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B48-60B4-4E52-AC57-35172D7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D1B2B-1632-41C9-8F72-B7CE2E07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11669-C70F-456D-9466-4091FA8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AD9BB-B55A-4A55-BF90-B1F169EF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6FBD6-A4D3-4F78-9F73-8B67BC4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2F1AC-57BE-4DA6-8F6F-D7DC37C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686FA-5C3E-45FE-AF68-2D39C5F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47562-7D0A-4B6F-AC4E-FD65552A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9F3D7-A427-457D-8DD8-05040A39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0CF1E-1F10-4870-8009-4A0D9242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7A3-36F2-4D2E-93FC-2D65C34B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59C-2D86-4AE0-88CE-9B4F94F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C49-B92A-40C6-8C53-FB5A774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244-3AC3-4A7C-8609-51CBCBD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3C1-DA21-448E-BFBC-409475B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5202EB-D407-4E5C-BB7A-6F6B3E83620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C6205-EDB8-42DB-A1A8-D0925E2BBF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DBE1B9-009D-422D-B043-C483D3BB83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02AA6A-C556-4AF1-9B2A-C3DAF574EF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hyperlink" Target="http://www.youtube.com/watch?v=nxVwsKNv08Q&amp;feature=player_embedded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ndr&#243;nico_de_Rodas" TargetMode="External"/><Relationship Id="rId3" Type="http://schemas.openxmlformats.org/officeDocument/2006/relationships/hyperlink" Target="http://es.wikipedia.org/wiki/Arist&#243;teles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rist&#243;teles" TargetMode="External"/><Relationship Id="rId3" Type="http://schemas.openxmlformats.org/officeDocument/2006/relationships/hyperlink" Target="http://es.wikipedia.org/wiki/Ser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Times New Roman"/>
              </a:rPr>
              <a:t>LA PREGUNTA FILOSÓFICA POR LA REAL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El problema alma-cuerpo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ualismo de Plat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edón (la inmortalidad del alm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93080" cy="7345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26920" y="189000"/>
            <a:ext cx="7129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Qué nace, pues de la vida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La muerte -respondi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qué nace de la muerte?-insistió Sócrat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Es necesario admitir que de ella nace la vida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Así pues, Cebes, ¿La vida y los seres vivientes se engendran de los muertos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Así parece-contest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Nuestras almas están, pues, en el Hades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Cierto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una de las dos generaciones, en este caso, no es sensible? ¿Sabemos o no qué es el morir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Lo sabemo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Qué haremos pues?-prosiguió Sócrates-, ¿No hemos de admitir en ella la generación contraria, porque si no la Naturaleza sería deficiente? ¿No es necesario admitir que la muerte tiene su generación contraria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Efectivamente-afirmó Cebes.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¿Y cuál es ese contrario? 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-Renac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-324000" y="-104760"/>
            <a:ext cx="9649080" cy="7099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-252360" y="0"/>
            <a:ext cx="316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El Mito de la       Cave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6093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ualismo metafísic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ndo sensible y mundo de las id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pinión (doxa) contrapuesta a la ciencia (episte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156360" y="1905120"/>
            <a:ext cx="2530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latón distingue dos modos de realidad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realidad inteligible, a la que denomina "Idea", tiene las características de ser inmaterial, eterna, (ingenerada e indestructible), pues, siendo, por lo tanto, ajena al cambio, y constituye el modelo o arquetipo de la otra realidad, la sen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realidad sensible, por lo tanto tiene las características de ser material, corruptible, (sometida al cambio, esto es, a la generación y a la destrucción), y que resulta no ser más que una copia de la realidad inteligi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Conócete a ti mism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o conclusión podemos afirmar que la metafísica podría resumirse en esta sen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trata pues de un autoconomicimiento, que en la modernidad comenzará partiendo del propio suje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el propio sujeto el que percibirá el mundo, por lo que la pregunta no solo es ¿qué es la realidad?, sino también ¿qué soy y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Times New Roman"/>
              </a:rPr>
              <a:t>Metafísica como una puerta hacia una nueva “</a:t>
            </a:r>
            <a:r>
              <a:rPr b="0" i="1" lang="es-ES" sz="4000" spc="-1" strike="noStrike">
                <a:solidFill>
                  <a:srgbClr val="b7e7ff"/>
                </a:solidFill>
                <a:latin typeface="Times New Roman"/>
              </a:rPr>
              <a:t>realidad</a:t>
            </a:r>
            <a:r>
              <a:rPr b="0" lang="es-ES" sz="4000" spc="-1" strike="noStrike">
                <a:solidFill>
                  <a:srgbClr val="b7e7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92360" y="1676520"/>
            <a:ext cx="5543640" cy="52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Pero…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Qué es la metafís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De dónde surge y porqué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¿Para qué la metafís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b7e7ff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nombre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tafís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roviene del título puesto por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ndrónico de Rod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una colección de escritos de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ristóte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or tratar de temas que iban más allá de la naturale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¿Qué es la metafísica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saber que aborda el estudio de la realidad, del ser y de todo cuanto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“ciencia” del ser. También llamada ont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ristóte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Estagira, elaboró lo que él llamaba una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“filosofía primera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cuyo principal objetivo era el estudio del 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Se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cuanto tal, de sus atributos y sus caus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¿Es la metafísica una ciencia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91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Kant pretende hacer de la metafísica ciencia, pero el conocimiento científico se apoya en los datos de la exper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ún Kant, una afirmación es metafísica cuando afirma algo sustancial o relevante sobre un asunto que por principio escapa a toda posibilidad de ser experimentado sensiblemente por el ser huma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tafísica no se apoya en datos de la experiencia, va más allá. Las ideas metafísicas son “ilusiones de la razó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b7e7ff"/>
                </a:solidFill>
                <a:latin typeface="Times New Roman"/>
              </a:rPr>
              <a:t>Pero a pesar de ello…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razón humana siempre se planteará aquellos interrogantes que no tienen solución, como ¿de dónde venimos?, ¿a dónde vamos?, ¿Existe Dios?, ¿Tiene algún sentido la vida o es puro az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llo, el preguntarnos acerca de cuestiones metafísicas es una “necesidad inevitabl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173160"/>
            <a:ext cx="8510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b7e7ff"/>
                </a:solidFill>
                <a:latin typeface="Times New Roman"/>
              </a:rPr>
              <a:t>La consciencia atrapada en la caja de Pandor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7160"/>
            <a:ext cx="8510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ciencia como el rasgo más fundamental del ser humano, nos permite “darnos cuenta de alg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ello somos un “animal racion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ciencia como una vuelta a uno mismo: Platón habla del diálogo del alma con uno mismo. Esa vuelta a sí mismo es una “re-flexión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hombre es un dios cuando sueña y un mendigo cuando reflexiona” (Hölderl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0:14:13Z</dcterms:created>
  <dc:creator>WinuE</dc:creator>
  <dc:description/>
  <dc:language>en-US</dc:language>
  <cp:lastModifiedBy>WinuE</cp:lastModifiedBy>
  <dcterms:modified xsi:type="dcterms:W3CDTF">2011-04-03T22:15:42Z</dcterms:modified>
  <cp:revision>16</cp:revision>
  <dc:subject/>
  <dc:title>LA PREGUNTA FILOSÓFICA POR LA REALIDAD</dc:title>
</cp:coreProperties>
</file>